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11F4-6993-483C-8E98-C3DFC77F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D08B-11D5-46A8-A02D-11A1F0B7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0D7-4272-44D2-B979-B3F51154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B90-8CC7-4920-91CA-2A6EE3D8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9C6-F1C7-4C3D-B500-32EB3EDE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CA6-4F9A-49D4-B4D3-F445E1D2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915-C0DE-44FC-8891-E67418B9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E48-AC1C-4B1A-8212-7A9292A9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442-AB21-449C-953F-0DBC1581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AAB-4299-42FA-B8AC-CC8DC1AC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307-9775-4393-9609-5D136C86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1E0-A139-4186-824D-E1E066C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FEF-A4A7-4E61-9561-0C57CD20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EA2-4149-4456-A0B1-757B7FD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C63B-026F-4D52-A52A-58970CC86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9:53Z</dcterms:modified>
  <cp:revision>118</cp:revision>
  <dc:subject/>
  <dc:title>Museum of World Stuff</dc:title>
</cp:coreProperties>
</file>